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E9D-B08A-4202-929D-147383CB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449-7C2B-46E2-BF90-CA8782CF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513-9B4A-4BB3-99A0-71D455EB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E8C-3CD2-4B63-A6A7-57A79A20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DE7-8B0B-483C-82AA-9253F43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E76-AB29-4C4B-9C87-66A051F4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D90-BD69-4228-BE0E-99D381B5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8AF-98DF-4643-BA81-861F35D3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961-5A03-4009-9711-10AD6777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680-3DAF-4E3C-A3F1-CA2B076B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473-FE60-40E2-8379-0D6DE09B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0A9-1D89-434F-B7E4-AFFDA129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1F93-C102-44FA-8C1E-3B4E83FBD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54936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ملكة العربية السعودية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إدارة التربية والتعليم بمحافظة ...........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درسة  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"/>
              </a:rPr>
              <a:t>تنفيذ مركز مصادر التعل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56536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رحبا بكم في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سابقة ( ملتقى الضاد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048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- هو بخار الماء الكثيف</a:t>
            </a:r>
            <a:br>
              <a:rPr sz="6000"/>
            </a:b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و يغشى الأرض كالدخان ؟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3300"/>
                </a:solidFill>
                <a:latin typeface="Arial"/>
              </a:rPr>
              <a:t>الضب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هي وظيفة القلب الأساسية في الجسم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3300"/>
                </a:solidFill>
                <a:latin typeface="Arial"/>
              </a:rPr>
              <a:t>ضــخ الـدم</a:t>
            </a:r>
            <a:r>
              <a:rPr b="0" lang="ar-SA" sz="1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ما هي السورة التي سميت باسم وقت من أوقات الزمن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ح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العملية الأساسية في الحساب و الجبر ؟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ــر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ينفذ من الاجسـام الشفافة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و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عظام الصدر تسمى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لــــو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6:22:47Z</dcterms:created>
  <dc:creator>AAAAAA</dc:creator>
  <dc:description/>
  <dc:language>en-US</dc:language>
  <cp:lastModifiedBy>pcw_mos_24-11-07</cp:lastModifiedBy>
  <dcterms:modified xsi:type="dcterms:W3CDTF">2009-02-09T16:16:33Z</dcterms:modified>
  <cp:revision>4</cp:revision>
  <dc:subject/>
  <dc:title>1- هو بخار الماء الكثيف  و يغشى الأرض كالدخان ؟ </dc:title>
</cp:coreProperties>
</file>